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DF24-A34C-495C-B249-60DACDCB7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542B-6FEB-493D-BED2-4911C654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A85542-F160-4CAB-BAAF-291B02F3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531912-E62F-44C1-B110-495E3CDE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D3784-57C1-4055-96AC-CFC0871F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C102F0-4939-4A85-8605-77020474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553F95-65A3-4DA4-9C50-DE3689BE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8840C0-D461-4CCE-8681-4B0A66CD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A91D10-CDC4-46EC-A50E-240D9244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D0069A-330E-4722-9519-A75627A43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5054F-8A71-4256-9E1C-9A64C2BD5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8ECEDF-8015-44E8-85E0-0A76B582E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7499-6DE3-4004-9509-754039DE6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6CB1A1-A30D-4B0D-88DF-8D902FB5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65F62A-0833-4680-90AF-8F5B29B0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1C7CDB-32F3-4ADD-BF1B-CC75DE4B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7B93E0-B270-44FF-B382-DB0BDF46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8890B9-8FE2-449D-919E-95C4B5E6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CC885D-0A1B-4EBE-B403-A7E48D5A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A773AC-B345-43F4-801A-1B9FA76A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185653-6DD2-4CD3-A369-6172592F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821DC2-4815-44C2-A50C-84B872E7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AAC5C6-1699-4EDD-984A-2C7AC426E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1750-606D-4AE3-95C5-689918944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68CA91-EEB5-4F70-B071-122D0A91C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32A47A-702A-438B-B6AE-032B6CD7E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EF078-CDEA-4F4B-892B-F481D1F5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966DE-5749-4258-9411-FF85CF56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EEE8B-1A12-4E43-8DA3-D3FB3B43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D3DEA-C90A-4265-AEFC-E097AFEF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BE036-7027-4D7F-85BF-A096D4F2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789E6-91A6-428C-A030-70A2450F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F6266-1D8B-4A66-B3F2-ADF9D274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89AC2-6E7F-497E-92CB-F0643377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AC94-B914-4BF2-B57C-5D264A533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0D5A8-535B-4FEB-8B15-72E4B1A4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8DF8C-D575-4B31-9F58-051C2D530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A96F8-486C-4544-9FDA-117F88750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3D34C6-3F73-4425-9044-38E14431F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357492-4286-4646-A9E6-A7A2B0BC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2AB8CD-CC9D-4174-8055-0CABE298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828DAE-7828-47A7-ADF8-E171E64E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1032EC-F1FE-4737-910B-91897099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853306-6338-42F9-AFE7-6137AF7D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886F84-B4A5-48FF-94D2-41990BEF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525A-1E04-4661-9B98-A87548E0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1C07E3-5D57-49B3-B97F-7DC94CBE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6D2568-7A0F-4598-A62B-632B8E72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2A2252-7C4A-4CDC-8770-DF2209C1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C5C535-924D-40E6-8590-F7B80466D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A84C02-6FCD-4062-9D2E-33A8A7A82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30554F-AC06-4DBF-8E90-2C1F5D49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750DF0-0EA0-4B23-9EE5-9FEDD557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1516FC-95E4-4F1E-B330-9922C1A4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B0C570-92A8-43DE-B526-AD43BAE9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9E34B5-ADA1-4896-A770-F897C4A3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C7DE-4861-4A28-B2CD-F75CE7A9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FF33C0-D953-4E7E-A9C6-11DE0359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830744-F66E-46A4-8271-1EC14559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84EA81-6DC2-4CBF-A686-B0E632CD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166717-2733-4771-AE5B-F44F40C3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39B760-9C1B-4D01-ACDA-BB767D6D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5DD580-92D3-4F47-B706-A88F16D6C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485E3C-C886-4B3F-BE8C-AC3586FA3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453F84-7C3F-4C49-9C0A-14CE35DA8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77A48F-7889-4C39-9350-131D8E67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DA79D9-D312-41D1-A5C6-DE77E67D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7A95-5EDB-47AC-A35B-79FBE89C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7D3AD1-5DD6-4020-AAD1-3A885754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51AF5A-6D01-4554-9B24-D1698197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778465-1CF8-4D5C-9817-BF85E9B6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4D1630-2FD8-43D8-8A69-81E256EC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1AA18C-B8F6-4F4E-96BC-350873ED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8638B0-EE1A-40EE-90F5-0D1B395E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73329E-8977-4646-A788-2B913C68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551D68-A2A2-4A3F-8B7A-E8F38D0F2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CCDCF8-65D0-4C6D-A09A-1FEDF5C98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D0C172-F4DB-439F-9DA5-50BF5F701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DF98-B5E3-43B4-A3A0-0658FDEE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C82B3C-5071-4555-B49B-755DC95A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21D3B1-827C-41A4-9AF0-097D7A20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86FF05-43AC-4E31-A20D-E19994F2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F93161-FD35-4408-85D0-8DF3B558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8DE9D9-FB69-40F0-8CA8-3443667F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030E21-3105-4BB2-89EA-F597A8DA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18B71C-D538-424B-BE14-72E56312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42F84F-9437-4ED5-A3BE-4CF810F0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1A0872-4E77-4621-AA1D-0B0CD853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A5080B-DB1A-48E6-8008-B23469E7D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8719-7971-4C6F-BA4F-B1231525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334391-AD47-4D6C-87DC-71DE75A8C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8BCC68-D706-4B69-BEFB-381879079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95927A-8AD4-4D88-A0D2-EAAB326C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754ECA-714C-4E54-86D6-B3BC0489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69CF5A-6F4E-42D0-86E8-00218713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FBF38D-9F9A-4C0E-BAFE-891D7729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1CDAC0-4559-45B9-A55D-A9EDDA93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281076-89B5-4AC6-AC6B-A8C38639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740EE9-CB07-42D8-8AF7-5E465027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60EA7A-DF2B-4DEE-BC8F-C1F26ED8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F65F6-0D7B-4ACA-95A2-51DE44EA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539204-930A-4187-94CB-E3A5EE8C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9224A8-49F5-4CC2-9CA1-A6F956B45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0B9236-F82F-4AD4-BB0A-67CA27175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06116F-2759-44FF-8B60-C6FEAB205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9DEFEC-7D4B-475E-9200-1734F075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9CFFC4-574A-4100-AB82-F104DF85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8EDBA7-78DF-42EA-9210-AABD5913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8E6951-427B-4F60-91C6-339BE7BD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524E31-8719-4044-8D74-0AC7BD17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12B716-305B-4C72-8B5A-C40FAB60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D7FD-ABC7-48F1-A8C8-853E36FE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ABBC-7504-43C9-B96F-76786B77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463337-3E4C-43E0-9840-454A18FC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4C7B43-2CF5-4E4D-9DDB-C71563C5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230857-172A-460D-8A92-868E9022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B5BA0D-5BAC-40CB-AE2B-2F395BE4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25E361-BE71-4318-B88B-796FF195B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C15DDC-ED37-414D-92C4-88A6F3D7F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020ED5-EEDB-4B5B-96F3-61A2C0FF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072582-8178-4B94-A7D0-9895BC94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355221-97EC-4463-B579-4791C5AD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62A001-C446-48B1-8179-A8B423FA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A0F6-64A1-437A-A190-F421E4B7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D8691A-A9CF-4BDF-BFFD-116CC8F0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FA0E38-A329-4881-9E1C-8951C459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BBA7FF-8083-4373-9F73-88EADD9F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632F6B-1A0C-4708-A183-3F59F136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A4376A-9E1B-47BB-9F21-5D4A489F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134ED7-A119-4787-BD45-97F312B43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129E93-4F8B-4788-81D1-CFB4E87A0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C76DDC-E25C-4410-AD68-0290C082E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B6B2CA-79CF-437A-96B6-FDC02CDB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7191A6-66F1-4E10-BE42-4BFC1AB5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CB35-8673-4A75-B6EF-AA671F7A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2779CA-C90C-44C0-A049-8055B47C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836B15-2D77-4D18-9D20-682DA831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3C2F49-9EBF-4E28-A995-0D0983FB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67A30C-59C3-44B2-BEB0-4782E987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B1DCB3-E77E-4A5E-81DD-11E0FC97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0F9FF5-0774-444A-99C3-7C00CB6B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C5E3C0-119B-4D41-9789-0FFD6860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743F6B-14A8-4E41-9E55-1D64B2E97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BB6977-7AFD-4212-9077-84D6E911B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25D640-D485-4E3F-AC28-BB8477150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91F2-925E-464F-A931-78FA63826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F4B5DC-DEEC-4732-ABA2-BB544F5E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B818CC-5810-4154-ACB6-02C83B58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701E6B-BA2D-4866-8589-78BDD375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0BEEA8-FB1D-4AA8-B003-28130B49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F8586D-0136-45CD-8111-4B2EDAD4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C5C126-D599-4146-A84F-A0948D93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C1E409-12B6-4A34-B766-F76D9E74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0E294D-C693-430E-B2CD-759C8FCB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E80C88-E997-4225-AD6A-A5AFF577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775947-8F82-4431-B870-F781BA8E8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8E96-8290-4A4F-9E46-23705A3D0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FBB79F-8DD7-4C24-8662-878B1AE96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190649-18A2-4A7C-AC8A-E999E1157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44A9F4-D612-4FD7-9167-397F752C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926EB7-30A7-4AD3-87AA-3F509FAC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C29E28-DA6F-4631-870B-7D80FB00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3BDF0F-1032-4CD1-9B78-DA3BD76C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D50678-C6C7-4304-991B-8AE6FED4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544FC4-7012-486E-BD84-FB15A445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198AA1-837E-4106-B7EB-8AF9F815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04D629-DA7B-4519-9B17-8C6110A7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C59E4-DC95-4AE0-9EEB-AABB27223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3ACAAF-9D19-450E-A811-B42D70A0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FB0A85-C258-47B3-9AA4-DC0D72681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78F076-17A4-46F8-8F4B-78F41332A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CADF6-1AB4-4DD7-93FD-B6DE1924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59F1A-3EB2-459D-80EE-4EA21C14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65E43-1258-450F-9F03-D70F90A6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D1A14-72C0-44C3-98C1-F6BB7C8C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9DB1-56BA-4B77-A8D1-FFD55127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BD148-FD87-4940-AA10-7F70D9394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28041-207B-4C3F-BB97-D185C75B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DA68F-6532-4FD2-9E14-C6B86A5F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0BDF6-5108-49B9-93B7-AA3D9ED6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0BD2E-14B1-4D60-AF2E-69F87E77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9482C-E1EB-4FC7-A312-86831B9F3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FFE92-D749-47BB-BEDB-FDDA44521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DBF81-BE44-4F36-8A64-3E92E7DB1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F397D-DF51-4081-BDA2-C9316C04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05AF4-92B8-4D8E-972A-494BB53F0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F705-4D10-4F73-A591-A47E46AA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B3C1C-BDD2-47D2-8784-965BE203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3BCBA-A500-43A8-ACDE-C2085B2C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BAA83-3340-4DE7-9037-800E9C7D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F0F40-6C61-43A2-9DB9-0D5E42A1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49E9A-1730-4D2E-95F7-A5C44A3A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F5AC4-C8CF-42B0-A1AB-5D216A1E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62378-BF7F-4E95-B81D-2F9CD796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4004E-3517-4574-B7B0-AD8393F6E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C238A-9B89-4DF6-BF7E-BFB21F9B4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28A27-BAA2-4A65-9B25-0882F18A6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38F3-38A3-42A2-8B2D-E1D9DCB7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B5563-1665-4035-9A83-5191E90D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D072C-2822-4CBF-9B1A-A5D70357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0D6BA-4A8E-4186-855F-1155654D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F25B5-B221-43DB-8EF5-139EBB86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924A6-126C-4048-ACAE-45109FCF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983DB-2428-4D2A-89A1-13807F11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F7CBE-3613-4FC7-8EEB-B6509EAF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34714-21B1-4A87-A0CE-05D90F42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1EF88-A712-40B9-BCB1-1B4651EB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1D3D2-FAA7-4326-A66A-CA8B28EDA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8F74-FBD4-443F-8520-3DCA4AE6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3EFBA-AC7D-46C9-B3FD-0CF8C83A5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8BBA2-626D-4E04-91D7-06647B3C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CFCB1-D6E7-491F-881C-EE04E2A3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65AFB-2D26-40C6-8DDE-8435B3A8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38F83-F111-47D1-BC2E-973C03FA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5C97D-B134-4F40-9E95-70EC84B4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FA735-D6BA-4826-8820-68CC81D2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67E6A-BB0B-4730-920A-90832067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F1E60-5B95-4D4C-B58B-EF84878E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4AC89-C247-4DD9-9315-055EEF45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AD3A-0804-4F83-8BC5-3B2746CC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579BE-9D99-4D10-84A2-A95779BF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550B0-A5CA-42D1-B20D-03F864D89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ADCD2-8A28-482B-8038-2C4C631E3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208A4-2004-424C-A685-870EB4261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F86C2-565E-4091-94B4-D0648A69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FCCEB-0EC6-4F6F-B9E7-F1176916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4FE00-3DD8-42BB-B9CB-3301ED36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26762-A444-4425-842D-8DA775B6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B2CE3-0085-4F2C-A5C9-0983B7B7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352FB-3CD6-423E-B90E-96D01E04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2B3C-69DD-4566-B745-5D580B93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92EF6-78B6-4AC8-9E02-592B38FD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04483-42E7-4D2B-87AA-A3563CC5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12000-2365-4697-946C-7F04D184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9E678-297B-4520-8272-E3014D721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1F3A8-B71E-4FA6-BBD9-9BAF8F19E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438C3-5D97-46AF-8703-B1F77FEEB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0136D-ED0E-4B59-9B5A-003CD427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84684-B107-4644-B6CA-A1550F74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914CA-14E2-4EC5-B81E-709748DD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3473D-74D7-4EE8-991E-DAC388DE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9070-E56A-405A-AB8A-48B2F427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09AFB-CF9A-4E92-88C2-576CEA45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23996-5E39-46AD-903B-E67728E7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54062-7440-4AB5-A9BA-6B58D599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6D929-C62F-4516-A593-26E2AA40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ABAED-5B40-4D42-A2ED-D961AD33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E2A77-0F50-47C5-B3CB-C36EC6F7A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16F95-6140-4CE7-9E03-8486E9232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31B29D-A997-426F-986A-CF51EDF4A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B23C9-1598-436C-9154-C744777F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A43BF3-139D-4D40-86B4-96CB76F8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4CD5-9868-4AA9-AAB5-FBD245F29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E1DC-5441-4D64-9550-EFE2B777EB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187E-DF93-41F8-AD06-83DF0D5B9B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AF3C-4F50-4CD6-818B-2440F9917D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3FAC-22CC-4391-BE16-B36ECF0A3E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00D3-689C-4F98-ACDD-E604DEA5E5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C065-38AF-4EBF-8139-E4E336F399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6B92-9430-4F52-96AE-02B03E7C9E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1C60-BD3F-47C0-B50C-C9F44691F9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222F-D63D-4B30-8776-97CA8818CA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903E-84BD-4429-8341-D5011AD8AE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824B-2561-49AA-87F9-3B13DDDEA3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DDD8-822D-4751-BB45-6F56BBA3D6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C201-CFDB-48FF-9588-3C183769F4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F902-3538-413E-8A32-861F145E26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47DE-08AE-4617-9967-82CF0C094E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5DD8-9A0F-4620-AB69-7E6B5C4FDC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662F-470E-48B4-9E75-0B5779D218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8C73-279C-4E88-8A42-24C8FAF312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6DA1-6A4A-47B1-96F0-E6B2EA377C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AD01-79FB-45EB-BAF7-86FA60C435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424B-A084-44DF-AB46-312EEE1840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7DA5-E770-461A-9ED2-AB441D0D36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8817-FF7F-4773-95E7-9291622FBC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1B15-828F-46C9-AEA6-00E79DBEE3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C7A91-1506-4274-A4C2-2E2EA408ED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0876-46F2-424C-9970-B6C0654CD9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6C5B-DDBF-4721-8A5E-97B01AB80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8223-91D5-402B-B8A4-151932E2D9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0CB6-4D46-4FEB-BD6B-D95690BAE7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FE07-0DCF-4BDA-9362-D8015D2E75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4684-4C40-4657-B4F3-6C420CD164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CFAD-7813-49AA-9F29-E75F76B96F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5455-74A2-4D3C-B73C-2FA4D85A2F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8E74-82BF-4373-830E-B80042E131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ED47-D219-4708-94A4-04560D20B2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ED94-0B21-4507-B8A0-BAEA792EEC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8A5C-CE07-41B7-8E88-B52DFE8844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3DD4-4C70-4FF5-91C9-E20C316D7A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52E0-40D5-4772-9144-1516E95F67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Picture 1" descr=""/>
          <p:cNvPicPr/>
          <p:nvPr/>
        </p:nvPicPr>
        <p:blipFill>
          <a:blip r:embed="rId1"/>
          <a:stretch/>
        </p:blipFill>
        <p:spPr>
          <a:xfrm>
            <a:off x="1876320" y="3143160"/>
            <a:ext cx="5553360" cy="4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Picture 1" descr=""/>
          <p:cNvPicPr/>
          <p:nvPr/>
        </p:nvPicPr>
        <p:blipFill>
          <a:blip r:embed="rId1"/>
          <a:stretch/>
        </p:blipFill>
        <p:spPr>
          <a:xfrm>
            <a:off x="257040" y="1762200"/>
            <a:ext cx="8629920" cy="35240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4" descr=""/>
          <p:cNvPicPr/>
          <p:nvPr/>
        </p:nvPicPr>
        <p:blipFill>
          <a:blip r:embed="rId2"/>
          <a:stretch/>
        </p:blipFill>
        <p:spPr>
          <a:xfrm>
            <a:off x="2120760" y="293688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4" descr=""/>
          <p:cNvPicPr/>
          <p:nvPr/>
        </p:nvPicPr>
        <p:blipFill>
          <a:blip r:embed="rId3"/>
          <a:stretch/>
        </p:blipFill>
        <p:spPr>
          <a:xfrm>
            <a:off x="4786200" y="290844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4" descr=""/>
          <p:cNvPicPr/>
          <p:nvPr/>
        </p:nvPicPr>
        <p:blipFill>
          <a:blip r:embed="rId4"/>
          <a:stretch/>
        </p:blipFill>
        <p:spPr>
          <a:xfrm>
            <a:off x="7751880" y="292104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4" descr=""/>
          <p:cNvPicPr/>
          <p:nvPr/>
        </p:nvPicPr>
        <p:blipFill>
          <a:blip r:embed="rId5"/>
          <a:stretch/>
        </p:blipFill>
        <p:spPr>
          <a:xfrm>
            <a:off x="2097000" y="332892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4" descr=""/>
          <p:cNvPicPr/>
          <p:nvPr/>
        </p:nvPicPr>
        <p:blipFill>
          <a:blip r:embed="rId6"/>
          <a:stretch/>
        </p:blipFill>
        <p:spPr>
          <a:xfrm>
            <a:off x="4357800" y="3328920"/>
            <a:ext cx="379440" cy="3240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4" descr=""/>
          <p:cNvPicPr/>
          <p:nvPr/>
        </p:nvPicPr>
        <p:blipFill>
          <a:blip r:embed="rId7"/>
          <a:stretch/>
        </p:blipFill>
        <p:spPr>
          <a:xfrm>
            <a:off x="5240160" y="3314880"/>
            <a:ext cx="379440" cy="3236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4" descr=""/>
          <p:cNvPicPr/>
          <p:nvPr/>
        </p:nvPicPr>
        <p:blipFill>
          <a:blip r:embed="rId8"/>
          <a:stretch/>
        </p:blipFill>
        <p:spPr>
          <a:xfrm>
            <a:off x="7358040" y="3314880"/>
            <a:ext cx="285840" cy="3236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4" descr=""/>
          <p:cNvPicPr/>
          <p:nvPr/>
        </p:nvPicPr>
        <p:blipFill>
          <a:blip r:embed="rId9"/>
          <a:stretch/>
        </p:blipFill>
        <p:spPr>
          <a:xfrm>
            <a:off x="8215200" y="3357720"/>
            <a:ext cx="285840" cy="3236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4" descr=""/>
          <p:cNvPicPr/>
          <p:nvPr/>
        </p:nvPicPr>
        <p:blipFill>
          <a:blip r:embed="rId10"/>
          <a:stretch/>
        </p:blipFill>
        <p:spPr>
          <a:xfrm>
            <a:off x="2357280" y="4214880"/>
            <a:ext cx="243000" cy="2872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4" descr=""/>
          <p:cNvPicPr/>
          <p:nvPr/>
        </p:nvPicPr>
        <p:blipFill>
          <a:blip r:embed="rId11"/>
          <a:stretch/>
        </p:blipFill>
        <p:spPr>
          <a:xfrm>
            <a:off x="6500880" y="4214880"/>
            <a:ext cx="243000" cy="2872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4" descr=""/>
          <p:cNvPicPr/>
          <p:nvPr/>
        </p:nvPicPr>
        <p:blipFill>
          <a:blip r:embed="rId12"/>
          <a:stretch/>
        </p:blipFill>
        <p:spPr>
          <a:xfrm>
            <a:off x="7429680" y="4214880"/>
            <a:ext cx="242640" cy="2872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4" descr=""/>
          <p:cNvPicPr/>
          <p:nvPr/>
        </p:nvPicPr>
        <p:blipFill>
          <a:blip r:embed="rId13"/>
          <a:stretch/>
        </p:blipFill>
        <p:spPr>
          <a:xfrm>
            <a:off x="2357280" y="4572000"/>
            <a:ext cx="243000" cy="2872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4" descr=""/>
          <p:cNvPicPr/>
          <p:nvPr/>
        </p:nvPicPr>
        <p:blipFill>
          <a:blip r:embed="rId14"/>
          <a:stretch/>
        </p:blipFill>
        <p:spPr>
          <a:xfrm>
            <a:off x="7072200" y="4643280"/>
            <a:ext cx="243000" cy="2876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4" descr=""/>
          <p:cNvPicPr/>
          <p:nvPr/>
        </p:nvPicPr>
        <p:blipFill>
          <a:blip r:embed="rId15"/>
          <a:stretch/>
        </p:blipFill>
        <p:spPr>
          <a:xfrm>
            <a:off x="7902720" y="4579920"/>
            <a:ext cx="241200" cy="2890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4" descr=""/>
          <p:cNvPicPr/>
          <p:nvPr/>
        </p:nvPicPr>
        <p:blipFill>
          <a:blip r:embed="rId16"/>
          <a:stretch/>
        </p:blipFill>
        <p:spPr>
          <a:xfrm>
            <a:off x="2286000" y="5000760"/>
            <a:ext cx="243000" cy="2872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4" descr=""/>
          <p:cNvPicPr/>
          <p:nvPr/>
        </p:nvPicPr>
        <p:blipFill>
          <a:blip r:embed="rId17"/>
          <a:stretch/>
        </p:blipFill>
        <p:spPr>
          <a:xfrm>
            <a:off x="3286080" y="4929120"/>
            <a:ext cx="243000" cy="2872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4" descr=""/>
          <p:cNvPicPr/>
          <p:nvPr/>
        </p:nvPicPr>
        <p:blipFill>
          <a:blip r:embed="rId18"/>
          <a:stretch/>
        </p:blipFill>
        <p:spPr>
          <a:xfrm>
            <a:off x="7000920" y="5000760"/>
            <a:ext cx="243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Picture 1" descr=""/>
          <p:cNvPicPr/>
          <p:nvPr/>
        </p:nvPicPr>
        <p:blipFill>
          <a:blip r:embed="rId1"/>
          <a:stretch/>
        </p:blipFill>
        <p:spPr>
          <a:xfrm>
            <a:off x="409680" y="1519200"/>
            <a:ext cx="8324640" cy="38196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4" descr=""/>
          <p:cNvPicPr/>
          <p:nvPr/>
        </p:nvPicPr>
        <p:blipFill>
          <a:blip r:embed="rId2"/>
          <a:stretch/>
        </p:blipFill>
        <p:spPr>
          <a:xfrm>
            <a:off x="1071720" y="3857760"/>
            <a:ext cx="4214520" cy="3236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4" descr=""/>
          <p:cNvPicPr/>
          <p:nvPr/>
        </p:nvPicPr>
        <p:blipFill>
          <a:blip r:embed="rId3"/>
          <a:stretch/>
        </p:blipFill>
        <p:spPr>
          <a:xfrm>
            <a:off x="5857920" y="3857760"/>
            <a:ext cx="2857320" cy="3236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4" descr=""/>
          <p:cNvPicPr/>
          <p:nvPr/>
        </p:nvPicPr>
        <p:blipFill>
          <a:blip r:embed="rId4"/>
          <a:stretch/>
        </p:blipFill>
        <p:spPr>
          <a:xfrm>
            <a:off x="1143000" y="5000760"/>
            <a:ext cx="37944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Picture 1" descr=""/>
          <p:cNvPicPr/>
          <p:nvPr/>
        </p:nvPicPr>
        <p:blipFill>
          <a:blip r:embed="rId1"/>
          <a:stretch/>
        </p:blipFill>
        <p:spPr>
          <a:xfrm>
            <a:off x="338040" y="1371600"/>
            <a:ext cx="8467920" cy="44863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4" descr=""/>
          <p:cNvPicPr/>
          <p:nvPr/>
        </p:nvPicPr>
        <p:blipFill>
          <a:blip r:embed="rId2"/>
          <a:stretch/>
        </p:blipFill>
        <p:spPr>
          <a:xfrm>
            <a:off x="3179880" y="4130640"/>
            <a:ext cx="1285920" cy="3240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4" descr=""/>
          <p:cNvPicPr/>
          <p:nvPr/>
        </p:nvPicPr>
        <p:blipFill>
          <a:blip r:embed="rId3"/>
          <a:stretch/>
        </p:blipFill>
        <p:spPr>
          <a:xfrm>
            <a:off x="5072040" y="4130640"/>
            <a:ext cx="1285920" cy="3240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4" descr=""/>
          <p:cNvPicPr/>
          <p:nvPr/>
        </p:nvPicPr>
        <p:blipFill>
          <a:blip r:embed="rId4"/>
          <a:stretch/>
        </p:blipFill>
        <p:spPr>
          <a:xfrm>
            <a:off x="7189920" y="4130640"/>
            <a:ext cx="1285920" cy="3240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4" descr=""/>
          <p:cNvPicPr/>
          <p:nvPr/>
        </p:nvPicPr>
        <p:blipFill>
          <a:blip r:embed="rId5"/>
          <a:stretch/>
        </p:blipFill>
        <p:spPr>
          <a:xfrm>
            <a:off x="3143160" y="5445000"/>
            <a:ext cx="1285920" cy="3240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4" descr=""/>
          <p:cNvPicPr/>
          <p:nvPr/>
        </p:nvPicPr>
        <p:blipFill>
          <a:blip r:embed="rId6"/>
          <a:stretch/>
        </p:blipFill>
        <p:spPr>
          <a:xfrm>
            <a:off x="5035680" y="5445000"/>
            <a:ext cx="1285920" cy="32400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4" descr=""/>
          <p:cNvPicPr/>
          <p:nvPr/>
        </p:nvPicPr>
        <p:blipFill>
          <a:blip r:embed="rId7"/>
          <a:stretch/>
        </p:blipFill>
        <p:spPr>
          <a:xfrm>
            <a:off x="7151760" y="5445000"/>
            <a:ext cx="128592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7:09:25Z</dcterms:modified>
  <cp:revision>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